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18F-C14F-479D-90CB-9A0CB48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165-E536-4817-9451-B720CD6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D6E-6BC9-4BEA-B016-90BAD2AC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420-D70E-4B39-BA90-2EA5F2A0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1FA-0A60-4759-B1C7-D9CE838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76E-72DC-4593-9020-04565BA6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DA5-764B-4AC3-B756-26108282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1D3-6761-4F15-A4E2-D623984B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11C-42C5-4C75-B492-492FB2F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2FE-15E5-4ECB-BE9D-75FFB3B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6FB-49FD-4F5E-B778-568BA60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758-41B6-40BC-854A-76A8907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5A3-5A51-44AE-A968-8FDA0CF9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connections to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picture remind you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at experience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Text 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else you read (book, poem, newspaper, letter), watched (t.v., internet), or maybe heard (radio broadcast, commercial, new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98168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419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71476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34120" y="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going on in the worl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62600" y="137160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81280" y="3511440"/>
            <a:ext cx="4876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to-Sel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in the text reminds you of a personal experience or the experience of someone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39220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504960" cy="261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2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CONNE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loud, begin reading on page 22, starting with the paragraph beginning with “Papa opened the front door to the soldi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e arrows with orange highlights, stop and tell the kids about the connections I made.  I have included an example of each type of connection.  Write the connections I made on a post-it note and attach it to the CHART PAPER graphic organizer.  For the so what part, have them figure out how the connection helps the reader better understand EITHER a character’s actions, character’s feelings, the main conflict, OR the setting. JUST PICK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reading when you get to page 24.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09480"/>
          <a:ext cx="9144000" cy="6418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say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minds me of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What?  This helped me understan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you would be so kind as to tell me where the Rosens ar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ary of Anne Fran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Nazi soldiers find the family in hiding.  They were taken to concentration camps and many were kil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people’s lives changed during this time.  Fear overcame all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crumpled it into her hand and closed her fingers tightl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many Jewish people went into hiding and had to hide anything that symbolized their relig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in general hide who they a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need to look out for their safety first and that we sometimes hide who we are in order to protect our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you have this blonde haired daughter…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ister often gets asked about her blonde hair because my parents, sister, and I all have dark hair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get their feelings hurt when they are signaled out for differe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day, fill out this graphic organ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be thoughtful about your connec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Five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k the kids to share their connections with the clas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14:32Z</dcterms:created>
  <dc:creator>Administrator</dc:creator>
  <dc:description/>
  <dc:language>en-US</dc:language>
  <cp:lastModifiedBy>Administrator</cp:lastModifiedBy>
  <dcterms:modified xsi:type="dcterms:W3CDTF">2010-09-15T14:22:45Z</dcterms:modified>
  <cp:revision>8</cp:revision>
  <dc:subject/>
  <dc:title>Do Now 9-21 I can make connections to text.</dc:title>
</cp:coreProperties>
</file>